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8E5-05C9-4054-9E06-85F2A2A4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F47-75C6-4D0D-81B3-A50183B5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37E-BE49-4351-AB83-CEE57BC0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70D-EED0-4C82-81B8-91645A05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518-DAC0-435E-A58D-51482EA3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472-D74C-4539-A2CA-66F1D5B8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2B4-75AE-4613-943F-47A179BA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230B-9ADD-4143-9157-F0C5B020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7BA-7DA3-484B-A3B5-1DD086AC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CBE-B9D3-4DCA-8620-27237DF3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CD5-DC57-4BBD-9EF0-93DB742C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66B-3314-4233-B472-B6ED20FA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421B-1DC8-42B7-8851-AD39608D39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dmartini16@gmail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igla%20UE%20col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808360" y="2565360"/>
            <a:ext cx="352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TAVOLI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OMBRELLI PROGETTUAL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516720" y="5805360"/>
            <a:ext cx="2376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00"/>
                </a:solidFill>
                <a:latin typeface="Times New Roman"/>
              </a:rPr>
              <a:t>Adriana Marti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dmartini16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00"/>
                </a:solidFill>
                <a:latin typeface="Times New Roman"/>
              </a:rPr>
              <a:t>11 Ottobre 20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685800" y="1413000"/>
            <a:ext cx="77724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Premessa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a valorizzazione del territorio e delle competenze è uno dei punti di forza del futuro economico dell’Europa in un ottica di crescita sostenibile e compatibile con l’ambiente e il delicato tessuto storico-antropologico del nostro continen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a progettazione integrata  è uno strumento indispensabile per una continua interazione tra le varie componenti di sviluppo del territori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Questa interazione si esprime con la realizzazione di progetto operativo, che vede ogni iniziativa come parte integrante di una realtà che è costituita da tutto il territo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685800" y="1268280"/>
            <a:ext cx="7772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a costruzione progettuale dovrà identificare anche gli strumenti per far acquisire i principali saperi teorici e tecnici necessari per mettere a punto strategie di conoscenza, elaborazione di progetti di recupero, valorizzazione e sviluppo e in particolare di costruire progetti di integrazione economica trasversal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Dato l’assunto che attraverso l’uso attento della programmazione comunitaria (sia a livello regionale che a Bruxelles) si possono notevolmente integrare e plasmare i finanziamenti per la realizzazione di iniziative complesse che toccano diversi piani della vita economica e sociale di un territorio, il primo passo da compiere è la costituzione  di un tavolo di lavoro progettua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75870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755640" y="1341360"/>
          <a:ext cx="7632720" cy="5040360"/>
        </p:xfrm>
        <a:graphic>
          <a:graphicData uri="http://schemas.openxmlformats.org/drawingml/2006/table">
            <a:tbl>
              <a:tblPr/>
              <a:tblGrid>
                <a:gridCol w="3548160"/>
                <a:gridCol w="2219400"/>
                <a:gridCol w="1865160"/>
              </a:tblGrid>
              <a:tr h="2095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13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Il progetto “ombrello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Caratteristic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ottoprog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952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 un’opportuna programmazione operativa che possiamo definire “progettazione integrata” i diversi aspetti di un’unica idea progettuale possono essere coperti combinando finanziamenti di diversi programm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logica vincente per utilizzare i finanziamenti su vari progetti è quella di adottare una visione integrata dei fabbisogni e delle caratteristiche dell'iniziativ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mitarsi in maniera esclusiva al settore di attività prioritario tende a privilegiare solo i bandi che fanno espressamente riferimento alla materia di interesse, con il rischio di una maggiore competizione in ambito ristret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'ombrello ha le seguenti caratteristich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) il manico dell' ombrello è l' IDEA GUIDA ATTORNO CUI COSTRUIRE LA PROGETTAZI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) il puntale rappresenta le finalità europee (inclusione, sostenibilità e nuovi lavori + green de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) le 6 stecche i 6 assi di base della progettazione integrata, di solito 3 a livello regionale e 3 a livello europ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struttura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urbanis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di programmazione economica e analisi dei fabbisog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di analisi del mercato e bench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di inclusione soci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di formazione di operatori specializz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di ricer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971640" y="1700280"/>
          <a:ext cx="7272360" cy="4249800"/>
        </p:xfrm>
        <a:graphic>
          <a:graphicData uri="http://schemas.openxmlformats.org/drawingml/2006/table">
            <a:tbl>
              <a:tblPr/>
              <a:tblGrid>
                <a:gridCol w="3381120"/>
                <a:gridCol w="1816200"/>
                <a:gridCol w="2075040"/>
              </a:tblGrid>
              <a:tr h="19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 tematiche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ratteristic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mi/Fond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4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no da considerar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programmi che finanziano i trasferimenti di esperienze e le buone pratiche per assicurare il trasferimento di "know-how" e la crescita territoriale sostenibil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programmi che finanziano la definizione di scenari di sviluppo ed integrazio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programmi dedicati alle tecnolo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programmi che finanziano l’aggiornamento professionali degli operatori del sett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programmi di cooperazione interregionale trasversali su vari te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programmi regionali di svil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programmazione dei GAL territoriali per lo sviluppo loc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maggior parte di questi programmi prevedono partenariato locale e internazionale che bisogna fidelizza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ortante quindi selezionare i propri partner così che possano essere inseriti nei diversi progetti, dando valore aggiunto all’iniziativa stess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REG  sia transnazionali che  transfrontali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RASMUS + per la formazio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OPA CREATIVA e/o DIRITTI E VALORI per i gemellaggi e i progetti della società civile, la cultura e l’inclusi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SR (Fondi regional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SE (Fondo socia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S (Piano di sviluppo rura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1084320" y="1341360"/>
            <a:ext cx="7203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403280" y="1125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sempio Tavolo di lavoro già realizz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7742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Sigla%20UE%20col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12:46Z</dcterms:created>
  <dc:creator>Falasconi</dc:creator>
  <dc:description/>
  <dc:language>en-US</dc:language>
  <cp:lastModifiedBy>Adriana</cp:lastModifiedBy>
  <dcterms:modified xsi:type="dcterms:W3CDTF">2024-10-10T23:37:00Z</dcterms:modified>
  <cp:revision>33</cp:revision>
  <dc:subject/>
  <dc:title>Presentazione di PowerPoint</dc:title>
</cp:coreProperties>
</file>